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07989"/>
        <c:axId val="99630691"/>
      </c:barChart>
      <c:catAx>
        <c:axId val="67907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30691"/>
        <c:crosses val="autoZero"/>
        <c:auto val="1"/>
        <c:lblAlgn val="ctr"/>
        <c:lblOffset val="100"/>
        <c:noMultiLvlLbl val="0"/>
      </c:catAx>
      <c:valAx>
        <c:axId val="99630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07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01C-2885-4438-AC9E-C7DA971E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084-1D54-444F-983E-50DCD4E2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FD7-6BD4-4E07-ADBC-C2720BDD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8E2-58FD-4F3E-BB4B-B8C76955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886-E3D0-4DFA-8D0E-0995397D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776-3417-4E0D-A5DB-8DCFFA25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771-F04B-4EEE-8867-91D93F6B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D27-497C-4B6F-A216-51CCEDC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22A-60A4-4403-A601-A153B501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919-2FC2-4BC6-95B2-018EBC0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4E2-409A-4ADC-838B-EF83503D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C58-CC18-49C7-B00D-5CEDCF6D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A1516-D31D-46B7-B7EE-DC686F691E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